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EF1-C6E2-46A3-9EE9-08D6D40A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71D-A536-4863-93FB-EA0D8CD8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C17-9CCC-45B2-A0D2-60069386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CA0-8208-4974-95A0-F9516BD4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EE910-EC5C-47DA-B35B-13307D77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71DE6-269C-4D2D-8727-671E2D4B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11969-0741-4D6F-96F9-6319DED5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A606C-0340-4213-BE9C-858CA40C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3D35A-6B6F-44A2-B922-D7DC315C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E496B-598F-4263-ADB0-D33B1B27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E2DD3-2E81-4693-A88A-48A1FA75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BD7-9DDA-4405-8362-4CAAED59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2FEAE-3070-4E4A-A635-8F6497D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AE989-0AC5-4B6E-BE5C-350E46C6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EF653-BEA6-4884-A70D-00484AFA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4E9F4-6D8C-4EE9-93CC-EDE7BEE9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9B02A-845F-4B09-A361-F4E2032F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EDA0-2F33-4A2C-8507-A462989E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FF99-0576-419D-89C8-138956CB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2369-0B32-4358-BDC3-D89EC25C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BAD2-9778-4D28-810B-E0A856A5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DB3A-1A99-463E-90F0-C710CCD4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A04-355F-49E3-9840-72771BA8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4C88-B86E-48E8-AD58-C8B04C82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6147-66A8-4285-8DC2-F067DC84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1917-DF31-4CC8-A9A2-CD09099E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7CC0-C139-4307-8EF7-53FE7781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04CE-8695-4FBC-89CB-A966AC8F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5A00-FCBE-4399-944C-47D39B50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2C23-D1CB-4FC0-8C58-DA337A48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B78F-E3CC-48A2-A8E5-67793927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0C280-0286-4206-BDC7-58AFAB75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5FDE3-A45F-4295-8576-092E0E1A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A77-826B-43D7-8319-C33B7DB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B07B0-3026-4D22-875A-7DD05505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423E-47A7-48E5-B849-B7E46421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16863-D265-46E1-A87F-1C329429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8FBC-3E20-48BC-BCF1-520E870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B771-E8A4-4D37-8957-10042DE9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7BFC-ACB9-4E74-9527-88DE3FF5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A2CE-A058-42C3-A322-FFB855D6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2469-44E9-4C43-9A80-3F7BFB78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A532E-6D7F-4091-8E33-9CAFF62C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44C9-1702-4E19-8F4E-16B89CBE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C5A-FF98-4019-B1C3-8D3CA078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B59B0-149F-497C-9C78-C42F50AC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D40F1-2BB1-4936-8663-90CEB742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E521-7547-4032-8708-99AF3D69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6418C-BD35-4E0A-90AF-6FF34625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661D2-5D4F-4001-AFD3-EB661A55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D4034-033C-4C0A-BFA2-9055313C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7D5D-C114-43A1-9616-EF06799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D10B-D4DB-41D1-93D6-2806C36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F86B-3B64-4C8E-B97B-DA74F173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62A85-8591-43B4-B2B7-2B654609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276-5F81-497F-8F71-B14082CF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8AB15-1B3B-4561-AD08-0B22BABF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F408-74D0-426A-87AF-DCE07D4B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EDBD4-6167-4540-BA49-1916F92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CD427-0C8A-4F82-9EA2-9A86C88C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34CB2-09B1-465C-A3A4-A9E4488E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A3E18-7FE2-4E07-83C1-E5667CB2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9611A-A1F9-4122-A397-58ED2C1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4523D-26B0-45F2-B6F1-E7989BE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AFA39-5933-47CF-ABC1-CBE82C01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4FDD-4378-48B4-90B3-4129765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11E-D1BC-4677-985E-514CF04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05ED4-20ED-4F7C-89B8-35A134C1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7685-786F-45F4-BD39-1DF3A3FF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79DBF-E41A-41AA-9E0F-71AB76FB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558F6-EBBA-4795-9ECB-AA83C5AC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ADE53-98C0-4DE1-976B-6F146440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37936-6C97-4C60-B379-F9AF9209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D1114-61B8-425F-9E29-8D95B826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292C4-9B96-4220-AC2D-4ABBA88B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67D6-23B9-4864-88D0-E7F82AEC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C2848-643D-45FA-9AA5-D5AF8682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E1F-14DA-4DAD-B7D8-8711AB03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06DB8-2862-4F93-84ED-6EB6181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08C54-A9B7-49DE-A08B-B999C280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A0C90-3AD9-4592-A5F3-92512EB5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1E458-3677-44A5-9BA3-B2440719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EC308-CAF0-44C9-9073-8462BE7B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71E66-AC95-4629-B134-29C30E8E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41A4A-07F0-4B7E-B1BD-30826827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067CC-4B14-48FC-935E-F8AE322F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7D0D44-3C66-4FBA-A2BC-C5C1B863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F3248-5244-42AA-858F-84F17FDF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7CC-9C04-4DB2-A73A-A94ABBF7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2AE23F-84BC-4F73-92ED-842CCAB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4FCB15-EEF1-4914-BD30-85F8E90C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85030-ED26-4518-9B5A-A4FC8167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B009F-A1A2-4DCB-A5D7-CC268B4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3F992-6EFA-4B2F-9EC9-3D1CB71B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3DA6D4-5658-4DF4-823D-AD5B82BA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04DD32-07F8-441B-A4BB-6AC82695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b0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ba7c3e"/>
              </a:gs>
              <a:gs pos="100000">
                <a:srgbClr val="00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8887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7877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5CFD-168A-44EE-AFA6-EF063EE931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b0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ba7c3e"/>
              </a:gs>
              <a:gs pos="100000">
                <a:srgbClr val="00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8887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7877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ED15-922D-458E-B6B4-E334683CA0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2027-FEC8-4F1E-B440-E05E75EA8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6F57-E78F-4183-B084-D8210A398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7520-C74F-4C1A-B893-172A45BAFD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C935-655A-4E62-9097-B4F49FD2AD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4A21-CA1B-4C76-B54F-0DDDFBA6A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D079-7BCA-4A8A-A3E9-E0ECBDE8F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Argentina Aventur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Jack Wi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79440" y="4608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352680" y="4038480"/>
            <a:ext cx="2438640" cy="1952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29620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Len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ido Kriste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 vis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l hotel en Las Lenas. Es una la estacion de esqui. Es muy bonita. Mi hotel es muy grande y eleg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304920" y="4800600"/>
            <a:ext cx="2743200" cy="19414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2743200" cy="19526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6400800" y="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33520" y="0"/>
            <a:ext cx="2447640" cy="1866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3276720" y="4826160"/>
            <a:ext cx="251460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entro Commercial La P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ámid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Hoy fui al Centro Commercial La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ámide. El Centro Commercial La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ámide es interesante. Yo compré el equipo de esqui. Fue diverti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865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use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y fui al museo. El museo es muy interesante. Hay muchas pinturas. Fue muy divertido. Ne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 hoy, y mucho f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80988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qu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 yo fui a esquiar. Fue mi primera vez. Yo ba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 la pista. Lo fue diversíon. Llego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quipos de esqu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 Cin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 yo fue a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staurante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o como mucho. Ne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oy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mino en la nieve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nieve era hermos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514600" y="3581280"/>
            <a:ext cx="4191120" cy="314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Le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viaje de esquí fue muy divertido. Pa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un buen tiemp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i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ris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20040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5:11Z</dcterms:created>
  <dc:creator>wicejoh</dc:creator>
  <dc:description/>
  <dc:language>en-US</dc:language>
  <cp:lastModifiedBy>wicejoh</cp:lastModifiedBy>
  <dcterms:modified xsi:type="dcterms:W3CDTF">2011-11-30T17:04:10Z</dcterms:modified>
  <cp:revision>10</cp:revision>
  <dc:subject/>
  <dc:title>Argentina Aventura</dc:title>
</cp:coreProperties>
</file>